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AD2-B67A-4983-B2DE-CEDC762D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EEB-8A95-4AB6-A42A-79D511E5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BE5-DCC3-4BA4-BE78-40D00AFB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A36-0E50-4CDB-87FB-5242B753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6BEC8-C6CE-4078-BD54-D44C6291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A4BA6-6579-4E1D-9E3C-D39090A9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672D0-93CB-4A35-9A73-0A04962B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0AD5B-5DD0-4D0D-B579-5A9FEB0C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4AAC2-B5AD-4D9B-BA8A-F4759C0F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71C70-61A1-4501-BC7B-60CC5EEF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29A57-A046-4CF5-94D6-21000B0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D16-CD93-45AD-AA97-9F179F8E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B9280-C345-414B-ABB1-8628C09A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76576-6CBB-4586-ADAC-3BBB71ED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6E5C0-F627-4381-B403-F0926694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9DA10-8974-464E-BA27-4C8FAA23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41F90-B426-4F27-8911-30C3D874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3429-FDC4-4C39-A23C-733FA6BA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B3BD-4FE3-4C97-9754-868A0B5C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82C1-D48C-431F-9C4E-94E96346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4D1D-CAC6-4F91-84AC-E54B90D7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26C3-0415-402E-A5AF-E66BDBF5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96B-E495-4EB4-BBD4-E6AB6FE2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4DEC-B044-4FD9-8A45-741A959B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C98E2-441A-4CB9-A279-1B29DCDC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EB4B9-BAEE-4B2F-965D-E3AB149B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BA40-01C8-4421-A030-134C0F24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5226-180E-4C5A-A38A-5893FD14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1FAA-3BF9-4500-9CC3-1064F088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38E5-A557-439D-A7A3-25AEBED0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6B4-0D49-46B1-AC0B-B4F08BA9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E4F-6EA7-4441-8031-B44E4CC2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892-4A0D-4605-921A-171990A5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9AD-E46E-4B02-A0CD-1D6F03B3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86C-5CD0-4A06-976F-DB984250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BFA-E9A6-4619-9FF0-157495D8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5C0C-2B0A-487C-8410-DE900D10B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C2B0-0986-44D5-9087-977B00574D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B9E5-A468-4A65-968C-7F49F8C5C9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763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Effects of Classroom Seating Arrangements 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n-Task Behavior and Academic Performanc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An Action Research Proje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By Danielle Ste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EDUC 702.2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Fall 20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Theorists and Supporters of Row S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prefer row seating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McCorskey &amp; MCVetta, 1978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sk orientation is improv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Raviv, Raviv &amp; Reisel, 1990; Weinstein, 1979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76720" y="459432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NS: Arguments Supporting Cluster Se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ideal for socially facilitated learn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Patton, Snell, Knight &amp; Florman 2001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promotes “innovation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aviv, Raviv &amp; Reisel, 1990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s like each other more and communicate better when fac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ot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O’Hare, 1998; Bovard, 1951)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95480" y="4950000"/>
            <a:ext cx="289584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: Arguments Against Row S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seating impedes a teachers ability to walk between student desks and assess learn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Weaver Dunne, 2001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ment of the Hypoth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R1: Changing the seating arrangement from cluster seating to paired columns over a four week period will increase the on-task behavior of 24 common branch second grade students at PS X during math class, and lead to increased scores on math assess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icip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wo second grade common branch classes in the NYCBO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assroom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4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student repeating second gr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uster seating (4 groups of 6) 100% of the school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assroom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4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student repeating second gr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uster seating (4 groups of 6) 100% of the school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stru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Three Unit T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 surve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1: To be given to both classes prior to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2: To be given to both classes following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3: To be given only to class one following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onus, M., &amp; Riordan, L. (1998, Ma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Increasing student on-task behavior through the use of specific seating arrangement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PS026868).  Chicago, IL: Saint Xavier University.  (ERIC Document Reproduction Service No. ED422129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ovard, E. Jr. (1951, Nov). The psychology of classroom interaction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Journal of Educational Research, 45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3), 215-224.  Retrieved October 4, 2009, from the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urke, K., &amp; Burke-Samide, B. (2004, July-August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quired changes in the classroom environment: It’s a matter of design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Jamaica, New York: Clearing House.  (ERIC Document Reproduction Service No. EJ705442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allahan, R.  (1962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 and the cult of efficiency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Chicago, IL: The University of Chicago pres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hurch, S.  (2004).  Learning Styles.  Message posted to http://www.teresadybvig.com/learnsty.ht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unn, R. (1990, October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ita Dunn answers questions on learning styles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Jamaica, NY: Educational Leadership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ERIC Document Reproduction Service No. EJ416423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unn, K, &amp; Dunn, R. (1975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arning styles, teaching styles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NASSP Bulletin,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59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37-49.  Retrieved October, 25 2009, from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lorman, J.  (Fall, 2003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Psychological &amp; quantitative foundations: Researching classroom seating arrangements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ctober 4, 2009, from The University of Iowa, College of Education Web site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education.uiowa.edu/edatiowa/fall03/department/pandq/index.htm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astings, N., &amp; Schwieso, J. (1995, December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asks and tables: The effects of seating arrangements on task engageme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in primary classroom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  Nottingham, UK: Department of Primary Education. (ERIC Document Reproduction Service No. EJ514371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Koneya, M. (1976, January 1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ocation and interaction in row-and-column seating arrangements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nvironment and Behavior, 8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 265-282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 September 17, 2009, from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ackney, J., &amp; Jacobs, P. (2002, Januar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eachers as placemakers: Investigating teachers' use of the physical learning environment in instructional design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EF006078).  (ERIC Document Reproduction Service No. ED463645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arning styles: Unblock your true potential. (n.d.).  Retrieved October 4, 2009, fr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learningstyles.net/index.php?option=com_content&amp;task=view&amp;id=20&amp;Itemid=70&amp;lang=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cCroskey, J. C., &amp; MCVetta, R. W. (1978).  Classroom seating arrangements: Instruction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mmunication theory versus student preferences [Electronic version]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ommunication Education,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2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99-111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’Hare, M. (Autumn, 1998). Classroom design for discussion-based teaching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Journal of Policy Analysis a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Management, 1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(4), 706-720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atton, J., Snell, J., Knight, W., &amp; Gerken, K. (2001, April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 survey study of elementary classroom seatin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designs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SP040068).  Washington, DC: National Association of School Psychologist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ERIC Document Reproduction Service No. ED454194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roshansky, E., &amp; Wolfe, M.  (August, 1974).  The physical setting and open education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School Review, 82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556-574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aviv, A., Raviv, A., &amp; Reisel, E. (1990, Spring). Teachers and students: Two different perspectives?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easuring social climate in the classroom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merican Educational Research Journal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2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1), 141-157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 September 17, 2009, from the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chards, J. (2006, Winter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etting the Stage for Student Engagement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Kappa Delta Pi Record.  (ERIC Document Reproduction Service No. EJ724640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dling, Z. (1994, April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effects of three seating arrangements on teachers' use  of selective interactive verb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behaviors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SP035202).  New Orleans, LA: American Educational Research Association.  (ERIC Document Reproduction Service No. ED369757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lverstein, H., &amp; Stang, D. J. (June, 1976).  Seating position and interaction in triads: A field study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ociometry, 39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 166-170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rong-Wilson, T., &amp; Ellis, J. (2007, April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hildren and place: Reggio Emilia’s environment as third teacher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Montreal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Quebec: Theory Into Practice.  (ERIC Document Reproduction Service No. EJ755994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rong-Wilson, T., &amp; Ellis, J. (2007, April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hildren and place: Reggio Emilia’s environment as third teacher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Montreal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Quebec: Theory Into Practice.  (ERIC Document Reproduction Service No. EJ755994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usi, F. D. (July, 1989). The physical environment of art classrooms: A basis for effective discipline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r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, 42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37-43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nnarka, R., &amp; Ruhl, K. (2008, Ma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eating arrangements that promote positive academic and behavioural outcomes: 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view of empirical research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Oxford, UK: Support for Learning.  (ERIC Document Reproduction Service No. EJ793728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aver Dunne, D. (2001, April 4).  Do seating arrangements and assignments classroom management?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World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  Retrieved October 4, 2009, from http://www.education-world.com/a_curr/curr330.shtm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instein, C. (1977, Summer).  Modifying student behavior in an open classroom through changes in the physic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esign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merican Educational Research Journal, 14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3), 249-262.  Retrieved October 4, 2009, from the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instein, C. (1979, Fall). The physical environment of the school: A review of the research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view of Education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search, 49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577-610. Retrieved September 23, 2009, from the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A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nd Class 2 prior to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Disagree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like sitting near other people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can get my work done during math class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like sitting near other people while I work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can work independently during math class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 can’t get my work done during math class.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able of 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tatement of the Proble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Review of Related Literatu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-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tatement of the Hypothes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Participa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Instrume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Experimental De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Proced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B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nd Class 2 after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Disagree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get my work don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 while I work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work independently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’t get my work done during math clas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C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fter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Disagre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get my work done during math class when I sit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rows better than group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work independently during math class when I sit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groups better than row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able of 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ferenc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6-1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pendic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B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tatement of th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 X has adopted cluster seating for all classrooms, 100% of the school day.  Independent math practice at PS X is complicated by off-task behavior and would benefit from a less distracting seating arrangement, such as paired columns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429000" y="4800600"/>
            <a:ext cx="18018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Importance of Seating Arrange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main cause of off-task behavior is classroom seating arrange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Bonus &amp; Riordan, 1998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om arrangement affects the  learning process, student behavior, and student engage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Florman, 2003; Lackney &amp; Jacobs, 2002; Proshansky &amp; Wolfe, 1974; Richards, 2006; Strong-Wilson &amp; Ellis, 2007; Susi, 1989; Weinstein, 1977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600200" cy="139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04920" y="5240160"/>
            <a:ext cx="1600200" cy="13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-task behavior increases with ro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Hastings &amp; Schwieso, 1995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97180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prefer orderliness and clear views of the teach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Raviv, Raviv &amp; Reisel, 1990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learners prefer to learn alone or with one partn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Burke &amp; Burke-Samide, 2004; Church, 2004; Dunn &amp; Dunn, 1975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style is 60% biologic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Dunn, 1990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w seating reduces talk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Koneya, 1976; Ridling, 1994; Silverstein &amp; Stang, 1976; Wannarka &amp; Ruhl, 2008; Weinstein, 1979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the 1900’s the business model entered the American education system based on the German model of efficienc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Callehan, 1962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8120" y="4648320"/>
            <a:ext cx="289548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Problems With Cluster Seat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ed proximity increases likelihood of off-task convers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Koneya, 1976; Ridling, 1994; Weinstein, 1979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76720" y="4853160"/>
            <a:ext cx="2106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22:55:40Z</dcterms:created>
  <dc:creator>Danielle Steger</dc:creator>
  <dc:description/>
  <dc:language>en-US</dc:language>
  <cp:lastModifiedBy>Danielle Steger</cp:lastModifiedBy>
  <dcterms:modified xsi:type="dcterms:W3CDTF">2009-12-16T07:00:05Z</dcterms:modified>
  <cp:revision>110</cp:revision>
  <dc:subject/>
  <dc:title>The Effect of Classroom Seating Arrangements on On-Task Behavior and Academic Performance</dc:title>
</cp:coreProperties>
</file>